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wmf" ContentType="image/x-wmf"/>
  <Override PartName="/ppt/media/image3.png" ContentType="image/png"/>
  <Override PartName="/ppt/media/image26.png" ContentType="image/png"/>
  <Override PartName="/ppt/media/image2.wmf" ContentType="image/x-wmf"/>
  <Override PartName="/ppt/media/image1.wmf" ContentType="image/x-wmf"/>
  <Override PartName="/ppt/media/image27.png" ContentType="image/png"/>
  <Override PartName="/ppt/media/image15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82D9-56CC-4A87-B0B1-E6CFEB594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88F7-9FD2-4E84-88DA-652ABE005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0294-E8BF-4C0F-8ADE-105021DB1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55C8-F12A-4B12-8BF5-DC60C9985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3367-A37E-4085-80A1-71D352A23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EA68-4558-4749-B471-9D355C142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8C1D-262D-463C-8359-7A263AA3D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FE11-145A-4173-9CDC-09BF6FDFC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922F-A312-465E-B43F-1931343DC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C373-FB3D-4A9F-B356-71D0B212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74D9-7CAE-4224-982E-C0F53D2A7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5C90-A86D-43D4-AE28-A7DF1A727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1788D-3C90-40EF-B313-474ABFE79FE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Inner-core diagnostics of HWRFx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0360" y="3657600"/>
            <a:ext cx="7467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obert Rog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(with many others, e.g., John Gamache, Sylvie Lorsolo, Frank Marks, Dave Nolan, Paul Reasor, Jun Zhang)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*thanks to Thiago Quirino and Kevin Yeh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Figure6_resub"/>
          <p:cNvPicPr/>
          <p:nvPr/>
        </p:nvPicPr>
        <p:blipFill>
          <a:blip r:embed="rId1"/>
          <a:stretch/>
        </p:blipFill>
        <p:spPr>
          <a:xfrm>
            <a:off x="1233360" y="2165400"/>
            <a:ext cx="3529080" cy="11952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Figure7_resub"/>
          <p:cNvPicPr/>
          <p:nvPr/>
        </p:nvPicPr>
        <p:blipFill>
          <a:blip r:embed="rId2"/>
          <a:stretch/>
        </p:blipFill>
        <p:spPr>
          <a:xfrm>
            <a:off x="1257480" y="5075280"/>
            <a:ext cx="3543120" cy="1192320"/>
          </a:xfrm>
          <a:prstGeom prst="rect">
            <a:avLst/>
          </a:prstGeom>
          <a:ln w="0">
            <a:noFill/>
          </a:ln>
        </p:spPr>
      </p:pic>
      <p:sp>
        <p:nvSpPr>
          <p:cNvPr id="138" name="TextBox 5"/>
          <p:cNvSpPr/>
          <p:nvPr/>
        </p:nvSpPr>
        <p:spPr>
          <a:xfrm>
            <a:off x="2375280" y="0"/>
            <a:ext cx="35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Boundary layer diagnostic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TextBox 6"/>
          <p:cNvSpPr/>
          <p:nvPr/>
        </p:nvSpPr>
        <p:spPr>
          <a:xfrm>
            <a:off x="2264400" y="1596960"/>
            <a:ext cx="12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ropsond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2941920" y="2206800"/>
            <a:ext cx="126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Virtual potential temp (K)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2497680" y="5124600"/>
            <a:ext cx="173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Departure from low-level theta-v (K)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42" name="Group 15"/>
          <p:cNvGrpSpPr/>
          <p:nvPr/>
        </p:nvGrpSpPr>
        <p:grpSpPr>
          <a:xfrm>
            <a:off x="4832280" y="471600"/>
            <a:ext cx="3562560" cy="6081480"/>
            <a:chOff x="4832280" y="471600"/>
            <a:chExt cx="3562560" cy="6081480"/>
          </a:xfrm>
        </p:grpSpPr>
        <p:pic>
          <p:nvPicPr>
            <p:cNvPr id="143" name="Picture 2" descr="bl_mix.tif"/>
            <p:cNvPicPr/>
            <p:nvPr/>
          </p:nvPicPr>
          <p:blipFill>
            <a:blip r:embed="rId3"/>
            <a:stretch/>
          </p:blipFill>
          <p:spPr>
            <a:xfrm>
              <a:off x="4832280" y="3809520"/>
              <a:ext cx="3549600" cy="274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TextBox 7"/>
            <p:cNvSpPr/>
            <p:nvPr/>
          </p:nvSpPr>
          <p:spPr>
            <a:xfrm>
              <a:off x="6140160" y="47160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HWRFx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5" name="TextBox 13"/>
            <p:cNvSpPr/>
            <p:nvPr/>
          </p:nvSpPr>
          <p:spPr>
            <a:xfrm>
              <a:off x="6114240" y="4114440"/>
              <a:ext cx="1732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Departure from low-level theta-v (K)</a:t>
              </a:r>
              <a:endParaRPr b="0" lang="en-US" sz="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pic>
          <p:nvPicPr>
            <p:cNvPr id="146" name="Picture 14" descr="bl_thev.tif"/>
            <p:cNvPicPr/>
            <p:nvPr/>
          </p:nvPicPr>
          <p:blipFill>
            <a:blip r:embed="rId4"/>
            <a:stretch/>
          </p:blipFill>
          <p:spPr>
            <a:xfrm>
              <a:off x="4845240" y="942120"/>
              <a:ext cx="3549600" cy="274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TextBox 12"/>
            <p:cNvSpPr/>
            <p:nvPr/>
          </p:nvSpPr>
          <p:spPr>
            <a:xfrm>
              <a:off x="6499800" y="1208880"/>
              <a:ext cx="1267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Virtual potential temp (K)</a:t>
              </a:r>
              <a:endParaRPr b="0" lang="en-US" sz="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itle 1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Content Placeholder 2"/>
          <p:cNvSpPr/>
          <p:nvPr/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t 3 km horizontal grid length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imary circulation well-represente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gnitude of peak low-level inflow comparable, but inflow layer much deeper in model than observati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Vertical velocity, vorticity, divergence fields qualitatively similar, but much weake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roader distribution of vertical velocity in observations, both in inner eyewall and outer radii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Vertical vorticity more skewed in observations within eyewall compared with mod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ynamic” measures of PBL depth much deeper for mod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ixed-layer measure of PBL depth closer to observati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itle 1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Content Placeholder 2"/>
          <p:cNvSpPr/>
          <p:nvPr/>
        </p:nvSpPr>
        <p:spPr>
          <a:xfrm>
            <a:off x="457200" y="91440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ntinue expanding all databases (Doppler, dropsonde, HWRFx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ore intelligently subsample databases, e.g., better isolate steady-state cases, stratify by intensity, intensity chang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dd asymmetric components to vortex-scale evaluations (Paul has already done this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valuate alternate model configuati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ifferent PBL parameterizati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ifferent horizontal, vertical resoluti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uch work has gone toward evaluating performance of numerical models using “traditional” metrics, e.g., position and intensity erro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obust evaluations of inner-core structure needed to assess realism of numerical simulations, especially as grid lengths approach 1-3 km and fine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ealth of TC inner-core data collected at HRD over the years provides excellent opportunity for evaluating high-resolution numerical model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ulti-storm composites key to provide statistically robust measures (with obvious caveats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cus here is on several scales within TC inner core: Symmetric vortex-scale, Convective-scale statistics, and Boundary-layer properti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2"/>
          <p:cNvSpPr/>
          <p:nvPr/>
        </p:nvSpPr>
        <p:spPr>
          <a:xfrm>
            <a:off x="762120" y="4022640"/>
            <a:ext cx="3660480" cy="266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46" name="Group 7"/>
          <p:cNvGrpSpPr/>
          <p:nvPr/>
        </p:nvGrpSpPr>
        <p:grpSpPr>
          <a:xfrm>
            <a:off x="5410080" y="1371600"/>
            <a:ext cx="3581640" cy="4191120"/>
            <a:chOff x="5410080" y="1371600"/>
            <a:chExt cx="3581640" cy="4191120"/>
          </a:xfrm>
        </p:grpSpPr>
        <p:sp>
          <p:nvSpPr>
            <p:cNvPr id="47" name="Rectangle 5"/>
            <p:cNvSpPr/>
            <p:nvPr/>
          </p:nvSpPr>
          <p:spPr>
            <a:xfrm>
              <a:off x="5410080" y="1371600"/>
              <a:ext cx="3576240" cy="419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     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aphicFrame>
          <p:nvGraphicFramePr>
            <p:cNvPr id="48" name="Object 3"/>
            <p:cNvGraphicFramePr/>
            <p:nvPr/>
          </p:nvGraphicFramePr>
          <p:xfrm>
            <a:off x="5433480" y="1402560"/>
            <a:ext cx="3558240" cy="41601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49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433480" y="1402560"/>
                      <a:ext cx="3558240" cy="416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0" name="Group 10"/>
          <p:cNvGrpSpPr/>
          <p:nvPr/>
        </p:nvGrpSpPr>
        <p:grpSpPr>
          <a:xfrm>
            <a:off x="533520" y="754200"/>
            <a:ext cx="4343400" cy="2743200"/>
            <a:chOff x="533520" y="754200"/>
            <a:chExt cx="4343400" cy="2743200"/>
          </a:xfrm>
        </p:grpSpPr>
        <p:sp>
          <p:nvSpPr>
            <p:cNvPr id="51" name="Rectangle 9"/>
            <p:cNvSpPr/>
            <p:nvPr/>
          </p:nvSpPr>
          <p:spPr>
            <a:xfrm>
              <a:off x="533520" y="754200"/>
              <a:ext cx="4343400" cy="274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pic>
          <p:nvPicPr>
            <p:cNvPr id="52" name="Picture 4" descr=""/>
            <p:cNvPicPr/>
            <p:nvPr/>
          </p:nvPicPr>
          <p:blipFill>
            <a:blip r:embed="rId3"/>
            <a:stretch/>
          </p:blipFill>
          <p:spPr>
            <a:xfrm>
              <a:off x="533520" y="754200"/>
              <a:ext cx="4341240" cy="27421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53" name=""/>
          <p:cNvGraphicFramePr/>
          <p:nvPr/>
        </p:nvGraphicFramePr>
        <p:xfrm>
          <a:off x="762120" y="4022640"/>
          <a:ext cx="3657600" cy="266724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14400"/>
                <a:gridCol w="914400"/>
              </a:tblGrid>
              <a:tr h="461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Storm nam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Yea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Storm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Intensity range (kt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Numbe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of sonde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Erik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99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83 – 11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4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Bonni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99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68 - 9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7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George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99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66 - 7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3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Mitch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99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45 -  15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2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Bre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99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75 - 9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3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Denni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99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65 - 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Floyd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99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80 - 11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4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Fabia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200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68 - 12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3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Isabel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200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85 - 14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6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France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200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68 - 8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6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Iva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200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65 - 13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2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Denni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200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65 - 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Katrin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200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68 - 1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4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3"/>
          <p:cNvSpPr/>
          <p:nvPr/>
        </p:nvSpPr>
        <p:spPr>
          <a:xfrm>
            <a:off x="2998440" y="-61920"/>
            <a:ext cx="32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Data used in composit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TextBox 14"/>
          <p:cNvSpPr/>
          <p:nvPr/>
        </p:nvSpPr>
        <p:spPr>
          <a:xfrm>
            <a:off x="1667160" y="260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oppler databas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TextBox 15"/>
          <p:cNvSpPr/>
          <p:nvPr/>
        </p:nvSpPr>
        <p:spPr>
          <a:xfrm>
            <a:off x="1379520" y="3505320"/>
            <a:ext cx="250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PS dropsonde databas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TextBox 16"/>
          <p:cNvSpPr/>
          <p:nvPr/>
        </p:nvSpPr>
        <p:spPr>
          <a:xfrm>
            <a:off x="6332040" y="830160"/>
            <a:ext cx="17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WRFx databas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TextBox 17"/>
          <p:cNvSpPr/>
          <p:nvPr/>
        </p:nvSpPr>
        <p:spPr>
          <a:xfrm>
            <a:off x="1220400" y="511200"/>
            <a:ext cx="26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40 radar analyses in 8 different storms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TextBox 18"/>
          <p:cNvSpPr/>
          <p:nvPr/>
        </p:nvSpPr>
        <p:spPr>
          <a:xfrm>
            <a:off x="1343160" y="3755880"/>
            <a:ext cx="259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794 dropsondes in 13 different storms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TextBox 19"/>
          <p:cNvSpPr/>
          <p:nvPr/>
        </p:nvSpPr>
        <p:spPr>
          <a:xfrm>
            <a:off x="5519520" y="1098720"/>
            <a:ext cx="360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34 model output times in 16 runs of 8 different storms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TextBox 20"/>
          <p:cNvSpPr/>
          <p:nvPr/>
        </p:nvSpPr>
        <p:spPr>
          <a:xfrm>
            <a:off x="3704760" y="3471840"/>
            <a:ext cx="1227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Rogers et al., MWR, 2011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TextBox 21"/>
          <p:cNvSpPr/>
          <p:nvPr/>
        </p:nvSpPr>
        <p:spPr>
          <a:xfrm>
            <a:off x="3281040" y="6657840"/>
            <a:ext cx="1197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Zhang et al., MWR, 2011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TextBox 22"/>
          <p:cNvSpPr/>
          <p:nvPr/>
        </p:nvSpPr>
        <p:spPr>
          <a:xfrm>
            <a:off x="6334920" y="5602320"/>
            <a:ext cx="1962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 km inner mesh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MYJ PBL schem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errier microphysic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Uncouple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7"/>
          <p:cNvSpPr/>
          <p:nvPr/>
        </p:nvSpPr>
        <p:spPr>
          <a:xfrm>
            <a:off x="2369520" y="0"/>
            <a:ext cx="479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Vortex-scale diagnostics - symmetric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65" name="Group 18"/>
          <p:cNvGrpSpPr/>
          <p:nvPr/>
        </p:nvGrpSpPr>
        <p:grpSpPr>
          <a:xfrm>
            <a:off x="762120" y="609480"/>
            <a:ext cx="3549600" cy="5891400"/>
            <a:chOff x="762120" y="609480"/>
            <a:chExt cx="3549600" cy="5891400"/>
          </a:xfrm>
        </p:grpSpPr>
        <p:pic>
          <p:nvPicPr>
            <p:cNvPr id="66" name="Picture 16" descr="ut_obs.tif"/>
            <p:cNvPicPr/>
            <p:nvPr/>
          </p:nvPicPr>
          <p:blipFill>
            <a:blip r:embed="rId1"/>
            <a:stretch/>
          </p:blipFill>
          <p:spPr>
            <a:xfrm>
              <a:off x="762120" y="990360"/>
              <a:ext cx="354960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2" descr=""/>
            <p:cNvPicPr/>
            <p:nvPr/>
          </p:nvPicPr>
          <p:blipFill>
            <a:blip r:embed="rId2"/>
            <a:srcRect l="51402" t="43544" r="688" b="19791"/>
            <a:stretch/>
          </p:blipFill>
          <p:spPr>
            <a:xfrm>
              <a:off x="990360" y="3962520"/>
              <a:ext cx="3032640" cy="25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Box 8"/>
            <p:cNvSpPr/>
            <p:nvPr/>
          </p:nvSpPr>
          <p:spPr>
            <a:xfrm>
              <a:off x="2594880" y="1262160"/>
              <a:ext cx="1114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Tangential wind (m/s)</a:t>
              </a:r>
              <a:endParaRPr b="0" lang="en-US" sz="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9" name="TextBox 10"/>
            <p:cNvSpPr/>
            <p:nvPr/>
          </p:nvSpPr>
          <p:spPr>
            <a:xfrm>
              <a:off x="2683080" y="4144680"/>
              <a:ext cx="9320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Radial wind (m/s)</a:t>
              </a:r>
              <a:endParaRPr b="0" lang="en-US" sz="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0" name="TextBox 12"/>
            <p:cNvSpPr/>
            <p:nvPr/>
          </p:nvSpPr>
          <p:spPr>
            <a:xfrm>
              <a:off x="1911600" y="609480"/>
              <a:ext cx="92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Doppler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71" name="Group 19"/>
          <p:cNvGrpSpPr/>
          <p:nvPr/>
        </p:nvGrpSpPr>
        <p:grpSpPr>
          <a:xfrm>
            <a:off x="4832280" y="609480"/>
            <a:ext cx="3549600" cy="5989680"/>
            <a:chOff x="4832280" y="609480"/>
            <a:chExt cx="3549600" cy="5989680"/>
          </a:xfrm>
        </p:grpSpPr>
        <p:pic>
          <p:nvPicPr>
            <p:cNvPr id="72" name="Picture 17" descr="ut_mod.tif"/>
            <p:cNvPicPr/>
            <p:nvPr/>
          </p:nvPicPr>
          <p:blipFill>
            <a:blip r:embed="rId3"/>
            <a:stretch/>
          </p:blipFill>
          <p:spPr>
            <a:xfrm>
              <a:off x="4832280" y="990360"/>
              <a:ext cx="354960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Picture 4" descr="ur_mod.tif"/>
            <p:cNvPicPr/>
            <p:nvPr/>
          </p:nvPicPr>
          <p:blipFill>
            <a:blip r:embed="rId4"/>
            <a:stretch/>
          </p:blipFill>
          <p:spPr>
            <a:xfrm>
              <a:off x="4832280" y="3855960"/>
              <a:ext cx="354960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Box 9"/>
            <p:cNvSpPr/>
            <p:nvPr/>
          </p:nvSpPr>
          <p:spPr>
            <a:xfrm>
              <a:off x="6633720" y="1295280"/>
              <a:ext cx="1114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Tangential wind (m/s)</a:t>
              </a:r>
              <a:endParaRPr b="0" lang="en-US" sz="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5" name="TextBox 11"/>
            <p:cNvSpPr/>
            <p:nvPr/>
          </p:nvSpPr>
          <p:spPr>
            <a:xfrm>
              <a:off x="6879240" y="4155120"/>
              <a:ext cx="932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Radial wind (m/s)</a:t>
              </a:r>
              <a:endParaRPr b="0" lang="en-US" sz="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6" name="TextBox 13"/>
            <p:cNvSpPr/>
            <p:nvPr/>
          </p:nvSpPr>
          <p:spPr>
            <a:xfrm>
              <a:off x="6177600" y="60948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HWRFx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rcRect l="52182" t="0" r="0" b="65574"/>
          <a:stretch/>
        </p:blipFill>
        <p:spPr>
          <a:xfrm>
            <a:off x="800280" y="2095560"/>
            <a:ext cx="3009600" cy="2403360"/>
          </a:xfrm>
          <a:prstGeom prst="rect">
            <a:avLst/>
          </a:prstGeom>
          <a:ln w="0">
            <a:noFill/>
          </a:ln>
        </p:spPr>
      </p:pic>
      <p:sp>
        <p:nvSpPr>
          <p:cNvPr id="78" name="TextBox 3"/>
          <p:cNvSpPr/>
          <p:nvPr/>
        </p:nvSpPr>
        <p:spPr>
          <a:xfrm>
            <a:off x="2369520" y="0"/>
            <a:ext cx="479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Vortex-scale diagnostics - symmetric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TextBox 4"/>
          <p:cNvSpPr/>
          <p:nvPr/>
        </p:nvSpPr>
        <p:spPr>
          <a:xfrm>
            <a:off x="2290320" y="2305080"/>
            <a:ext cx="11163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Vertical velocity (m/s)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1835640" y="167652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opple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81" name="Group 10"/>
          <p:cNvGrpSpPr/>
          <p:nvPr/>
        </p:nvGrpSpPr>
        <p:grpSpPr>
          <a:xfrm>
            <a:off x="4495680" y="1628640"/>
            <a:ext cx="3570120" cy="3475800"/>
            <a:chOff x="4495680" y="1628640"/>
            <a:chExt cx="3570120" cy="3475800"/>
          </a:xfrm>
        </p:grpSpPr>
        <p:pic>
          <p:nvPicPr>
            <p:cNvPr id="82" name="Picture 2" descr="w_mod.tif"/>
            <p:cNvPicPr/>
            <p:nvPr/>
          </p:nvPicPr>
          <p:blipFill>
            <a:blip r:embed="rId2"/>
            <a:stretch/>
          </p:blipFill>
          <p:spPr>
            <a:xfrm>
              <a:off x="4495680" y="1981080"/>
              <a:ext cx="3550320" cy="274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Box 7"/>
            <p:cNvSpPr/>
            <p:nvPr/>
          </p:nvSpPr>
          <p:spPr>
            <a:xfrm>
              <a:off x="5873040" y="162864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HWRFx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329160" y="2314440"/>
              <a:ext cx="1116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Vertical velocity (m/s)</a:t>
              </a:r>
              <a:endParaRPr b="0" lang="en-US" sz="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5" name="TextBox 9"/>
            <p:cNvSpPr/>
            <p:nvPr/>
          </p:nvSpPr>
          <p:spPr>
            <a:xfrm>
              <a:off x="5526000" y="4736160"/>
              <a:ext cx="253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* Note difference in scale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vor_obs.tif"/>
          <p:cNvPicPr/>
          <p:nvPr/>
        </p:nvPicPr>
        <p:blipFill>
          <a:blip r:embed="rId1"/>
          <a:stretch/>
        </p:blipFill>
        <p:spPr>
          <a:xfrm>
            <a:off x="838080" y="1000080"/>
            <a:ext cx="3549600" cy="2743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div_obs.tif"/>
          <p:cNvPicPr/>
          <p:nvPr/>
        </p:nvPicPr>
        <p:blipFill>
          <a:blip r:embed="rId2"/>
          <a:stretch/>
        </p:blipFill>
        <p:spPr>
          <a:xfrm>
            <a:off x="838080" y="3914640"/>
            <a:ext cx="3549600" cy="2743200"/>
          </a:xfrm>
          <a:prstGeom prst="rect">
            <a:avLst/>
          </a:prstGeom>
          <a:ln w="0">
            <a:noFill/>
          </a:ln>
        </p:spPr>
      </p:pic>
      <p:sp>
        <p:nvSpPr>
          <p:cNvPr id="88" name="TextBox 5"/>
          <p:cNvSpPr/>
          <p:nvPr/>
        </p:nvSpPr>
        <p:spPr>
          <a:xfrm>
            <a:off x="2369520" y="0"/>
            <a:ext cx="479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Vortex-scale diagnostics - symmetric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TextBox 6"/>
          <p:cNvSpPr/>
          <p:nvPr/>
        </p:nvSpPr>
        <p:spPr>
          <a:xfrm>
            <a:off x="2846160" y="1268280"/>
            <a:ext cx="965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Vorticity (x 10</a:t>
            </a:r>
            <a:r>
              <a:rPr b="1" lang="en-US" sz="800" spc="-1" strike="noStrike" baseline="30000">
                <a:solidFill>
                  <a:srgbClr val="000000"/>
                </a:solidFill>
                <a:latin typeface="Calibri"/>
              </a:rPr>
              <a:t>-4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 s</a:t>
            </a:r>
            <a:r>
              <a:rPr b="1" lang="en-US" sz="8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TextBox 7"/>
          <p:cNvSpPr/>
          <p:nvPr/>
        </p:nvSpPr>
        <p:spPr>
          <a:xfrm>
            <a:off x="2037240" y="60948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opple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TextBox 10"/>
          <p:cNvSpPr/>
          <p:nvPr/>
        </p:nvSpPr>
        <p:spPr>
          <a:xfrm>
            <a:off x="2750760" y="4191120"/>
            <a:ext cx="1078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Divergence (x 10</a:t>
            </a:r>
            <a:r>
              <a:rPr b="1" lang="en-US" sz="800" spc="-1" strike="noStrike" baseline="30000">
                <a:solidFill>
                  <a:srgbClr val="000000"/>
                </a:solidFill>
                <a:latin typeface="Calibri"/>
              </a:rPr>
              <a:t>-4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 s</a:t>
            </a:r>
            <a:r>
              <a:rPr b="1" lang="en-US" sz="8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92" name="Group 12"/>
          <p:cNvGrpSpPr/>
          <p:nvPr/>
        </p:nvGrpSpPr>
        <p:grpSpPr>
          <a:xfrm>
            <a:off x="4876920" y="609480"/>
            <a:ext cx="3549600" cy="6048360"/>
            <a:chOff x="4876920" y="609480"/>
            <a:chExt cx="3549600" cy="6048360"/>
          </a:xfrm>
        </p:grpSpPr>
        <p:pic>
          <p:nvPicPr>
            <p:cNvPr id="93" name="Picture 2" descr="vor_mod.tif"/>
            <p:cNvPicPr/>
            <p:nvPr/>
          </p:nvPicPr>
          <p:blipFill>
            <a:blip r:embed="rId3"/>
            <a:stretch/>
          </p:blipFill>
          <p:spPr>
            <a:xfrm>
              <a:off x="4876920" y="999720"/>
              <a:ext cx="354960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4" descr="div_mod.tif"/>
            <p:cNvPicPr/>
            <p:nvPr/>
          </p:nvPicPr>
          <p:blipFill>
            <a:blip r:embed="rId4"/>
            <a:stretch/>
          </p:blipFill>
          <p:spPr>
            <a:xfrm>
              <a:off x="4876920" y="3914640"/>
              <a:ext cx="354960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Box 8"/>
            <p:cNvSpPr/>
            <p:nvPr/>
          </p:nvSpPr>
          <p:spPr>
            <a:xfrm>
              <a:off x="6177600" y="60948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HWRFx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6" name="TextBox 9"/>
            <p:cNvSpPr/>
            <p:nvPr/>
          </p:nvSpPr>
          <p:spPr>
            <a:xfrm>
              <a:off x="6900840" y="1300680"/>
              <a:ext cx="965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Vorticity (x 10</a:t>
              </a:r>
              <a:r>
                <a:rPr b="1" lang="en-US" sz="800" spc="-1" strike="noStrike" baseline="30000">
                  <a:solidFill>
                    <a:srgbClr val="000000"/>
                  </a:solidFill>
                  <a:latin typeface="Calibri"/>
                </a:rPr>
                <a:t>-4</a:t>
              </a: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 s</a:t>
              </a:r>
              <a:r>
                <a:rPr b="1" lang="en-US" sz="800" spc="-1" strike="noStrike" baseline="30000">
                  <a:solidFill>
                    <a:srgbClr val="000000"/>
                  </a:solidFill>
                  <a:latin typeface="Calibri"/>
                </a:rPr>
                <a:t>-1</a:t>
              </a: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7" name="TextBox 11"/>
            <p:cNvSpPr/>
            <p:nvPr/>
          </p:nvSpPr>
          <p:spPr>
            <a:xfrm>
              <a:off x="6789240" y="4223880"/>
              <a:ext cx="1078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Divergence (x 10</a:t>
              </a:r>
              <a:r>
                <a:rPr b="1" lang="en-US" sz="800" spc="-1" strike="noStrike" baseline="30000">
                  <a:solidFill>
                    <a:srgbClr val="000000"/>
                  </a:solidFill>
                  <a:latin typeface="Calibri"/>
                </a:rPr>
                <a:t>-4</a:t>
              </a: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 s</a:t>
              </a:r>
              <a:r>
                <a:rPr b="1" lang="en-US" sz="800" spc="-1" strike="noStrike" baseline="30000">
                  <a:solidFill>
                    <a:srgbClr val="000000"/>
                  </a:solidFill>
                  <a:latin typeface="Calibri"/>
                </a:rPr>
                <a:t>-1</a:t>
              </a: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1"/>
          <p:cNvSpPr/>
          <p:nvPr/>
        </p:nvSpPr>
        <p:spPr>
          <a:xfrm>
            <a:off x="1528920" y="0"/>
            <a:ext cx="639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Convective-scale statistics – f(proximity to RMW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9" name="Picture 2" descr="wcfad_dop_mult_reg3.tif"/>
          <p:cNvPicPr/>
          <p:nvPr/>
        </p:nvPicPr>
        <p:blipFill>
          <a:blip r:embed="rId1"/>
          <a:stretch/>
        </p:blipFill>
        <p:spPr>
          <a:xfrm>
            <a:off x="1174680" y="1066680"/>
            <a:ext cx="3549600" cy="2743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wcfad_dop_mult_reg6.tif"/>
          <p:cNvPicPr/>
          <p:nvPr/>
        </p:nvPicPr>
        <p:blipFill>
          <a:blip r:embed="rId2"/>
          <a:stretch/>
        </p:blipFill>
        <p:spPr>
          <a:xfrm>
            <a:off x="5181480" y="1066680"/>
            <a:ext cx="3549600" cy="27432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6"/>
          <p:cNvSpPr/>
          <p:nvPr/>
        </p:nvSpPr>
        <p:spPr>
          <a:xfrm>
            <a:off x="2260440" y="685800"/>
            <a:ext cx="14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ner eyewal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6341760" y="712800"/>
            <a:ext cx="11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er radii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TextBox 8"/>
          <p:cNvSpPr/>
          <p:nvPr/>
        </p:nvSpPr>
        <p:spPr>
          <a:xfrm>
            <a:off x="235440" y="236232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opple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04" name="Group 10"/>
          <p:cNvGrpSpPr/>
          <p:nvPr/>
        </p:nvGrpSpPr>
        <p:grpSpPr>
          <a:xfrm>
            <a:off x="234000" y="3886200"/>
            <a:ext cx="8497080" cy="2743200"/>
            <a:chOff x="234000" y="3886200"/>
            <a:chExt cx="8497080" cy="2743200"/>
          </a:xfrm>
        </p:grpSpPr>
        <p:pic>
          <p:nvPicPr>
            <p:cNvPr id="105" name="Picture 4" descr="wcfad_mod_mult_reg3.tif"/>
            <p:cNvPicPr/>
            <p:nvPr/>
          </p:nvPicPr>
          <p:blipFill>
            <a:blip r:embed="rId3"/>
            <a:stretch/>
          </p:blipFill>
          <p:spPr>
            <a:xfrm>
              <a:off x="1174320" y="3886200"/>
              <a:ext cx="354960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5" descr="wcfad_mod_mult_reg6.tif"/>
            <p:cNvPicPr/>
            <p:nvPr/>
          </p:nvPicPr>
          <p:blipFill>
            <a:blip r:embed="rId4"/>
            <a:stretch/>
          </p:blipFill>
          <p:spPr>
            <a:xfrm>
              <a:off x="5181480" y="3886200"/>
              <a:ext cx="354960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TextBox 9"/>
            <p:cNvSpPr/>
            <p:nvPr/>
          </p:nvSpPr>
          <p:spPr>
            <a:xfrm>
              <a:off x="234000" y="495288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HWRFx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1"/>
          <p:cNvSpPr/>
          <p:nvPr/>
        </p:nvSpPr>
        <p:spPr>
          <a:xfrm>
            <a:off x="1528920" y="0"/>
            <a:ext cx="639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Convective-scale statistics – f(proximity to RMW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9" name="Picture 2" descr="vorcfad_dop_mult_reg3.tif"/>
          <p:cNvPicPr/>
          <p:nvPr/>
        </p:nvPicPr>
        <p:blipFill>
          <a:blip r:embed="rId1"/>
          <a:stretch/>
        </p:blipFill>
        <p:spPr>
          <a:xfrm>
            <a:off x="1203480" y="1050840"/>
            <a:ext cx="3549600" cy="2743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vorcfad_dop_mult_reg6.tif"/>
          <p:cNvPicPr/>
          <p:nvPr/>
        </p:nvPicPr>
        <p:blipFill>
          <a:blip r:embed="rId2"/>
          <a:stretch/>
        </p:blipFill>
        <p:spPr>
          <a:xfrm>
            <a:off x="5137200" y="1050840"/>
            <a:ext cx="3549600" cy="27432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6"/>
          <p:cNvSpPr/>
          <p:nvPr/>
        </p:nvSpPr>
        <p:spPr>
          <a:xfrm>
            <a:off x="2260440" y="685800"/>
            <a:ext cx="14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ner eyewal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6341760" y="712800"/>
            <a:ext cx="11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er radii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TextBox 8"/>
          <p:cNvSpPr/>
          <p:nvPr/>
        </p:nvSpPr>
        <p:spPr>
          <a:xfrm>
            <a:off x="235440" y="236232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opple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14" name="Group 10"/>
          <p:cNvGrpSpPr/>
          <p:nvPr/>
        </p:nvGrpSpPr>
        <p:grpSpPr>
          <a:xfrm>
            <a:off x="234360" y="3865680"/>
            <a:ext cx="8452440" cy="2743200"/>
            <a:chOff x="234360" y="3865680"/>
            <a:chExt cx="8452440" cy="2743200"/>
          </a:xfrm>
        </p:grpSpPr>
        <p:pic>
          <p:nvPicPr>
            <p:cNvPr id="115" name="Picture 4" descr="vorcfad_mod_mult_reg3.tif"/>
            <p:cNvPicPr/>
            <p:nvPr/>
          </p:nvPicPr>
          <p:blipFill>
            <a:blip r:embed="rId3"/>
            <a:stretch/>
          </p:blipFill>
          <p:spPr>
            <a:xfrm>
              <a:off x="1187280" y="3865680"/>
              <a:ext cx="354996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5" descr="vorcfad_mod_mult_reg6.tif"/>
            <p:cNvPicPr/>
            <p:nvPr/>
          </p:nvPicPr>
          <p:blipFill>
            <a:blip r:embed="rId4"/>
            <a:stretch/>
          </p:blipFill>
          <p:spPr>
            <a:xfrm>
              <a:off x="5136840" y="3865680"/>
              <a:ext cx="354996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Box 9"/>
            <p:cNvSpPr/>
            <p:nvPr/>
          </p:nvSpPr>
          <p:spPr>
            <a:xfrm>
              <a:off x="234360" y="495288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HWRFx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Figure5_resub"/>
          <p:cNvPicPr/>
          <p:nvPr/>
        </p:nvPicPr>
        <p:blipFill>
          <a:blip r:embed="rId1"/>
          <a:srcRect l="0" t="0" r="0" b="52127"/>
          <a:stretch/>
        </p:blipFill>
        <p:spPr>
          <a:xfrm>
            <a:off x="1065240" y="1933560"/>
            <a:ext cx="3627360" cy="13334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Figure5_resub"/>
          <p:cNvPicPr/>
          <p:nvPr/>
        </p:nvPicPr>
        <p:blipFill>
          <a:blip r:embed="rId2"/>
          <a:srcRect l="0" t="47695" r="0" b="0"/>
          <a:stretch/>
        </p:blipFill>
        <p:spPr>
          <a:xfrm>
            <a:off x="1087560" y="5006880"/>
            <a:ext cx="3590640" cy="1325520"/>
          </a:xfrm>
          <a:prstGeom prst="rect">
            <a:avLst/>
          </a:prstGeom>
          <a:ln w="0">
            <a:noFill/>
          </a:ln>
        </p:spPr>
      </p:pic>
      <p:sp>
        <p:nvSpPr>
          <p:cNvPr id="120" name="TextBox 5"/>
          <p:cNvSpPr/>
          <p:nvPr/>
        </p:nvSpPr>
        <p:spPr>
          <a:xfrm>
            <a:off x="2375280" y="0"/>
            <a:ext cx="35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Boundary layer diagnostic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TextBox 6"/>
          <p:cNvSpPr/>
          <p:nvPr/>
        </p:nvSpPr>
        <p:spPr>
          <a:xfrm>
            <a:off x="2264400" y="1596960"/>
            <a:ext cx="12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ropsond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TextBox 8"/>
          <p:cNvSpPr/>
          <p:nvPr/>
        </p:nvSpPr>
        <p:spPr>
          <a:xfrm>
            <a:off x="2918880" y="2100240"/>
            <a:ext cx="111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Tangential wind (m/s)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TextBox 10"/>
          <p:cNvSpPr/>
          <p:nvPr/>
        </p:nvSpPr>
        <p:spPr>
          <a:xfrm>
            <a:off x="3109680" y="5103720"/>
            <a:ext cx="932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Radial wind (m/s)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TextBox 12"/>
          <p:cNvSpPr/>
          <p:nvPr/>
        </p:nvSpPr>
        <p:spPr>
          <a:xfrm>
            <a:off x="2640600" y="547848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alibri"/>
              </a:rPr>
              <a:t>10% of peak inflow</a:t>
            </a:r>
            <a:endParaRPr b="0" lang="en-US" sz="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TextBox 14"/>
          <p:cNvSpPr/>
          <p:nvPr/>
        </p:nvSpPr>
        <p:spPr>
          <a:xfrm>
            <a:off x="1892880" y="55324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TextBox 15"/>
          <p:cNvSpPr/>
          <p:nvPr/>
        </p:nvSpPr>
        <p:spPr>
          <a:xfrm>
            <a:off x="1665360" y="5764320"/>
            <a:ext cx="828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alibri"/>
              </a:rPr>
              <a:t>max tangential wind</a:t>
            </a:r>
            <a:endParaRPr b="0" lang="en-US" sz="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27" name="Group 18"/>
          <p:cNvGrpSpPr/>
          <p:nvPr/>
        </p:nvGrpSpPr>
        <p:grpSpPr>
          <a:xfrm>
            <a:off x="4694400" y="471600"/>
            <a:ext cx="3579480" cy="6081480"/>
            <a:chOff x="4694400" y="471600"/>
            <a:chExt cx="3579480" cy="6081480"/>
          </a:xfrm>
        </p:grpSpPr>
        <p:pic>
          <p:nvPicPr>
            <p:cNvPr id="128" name="Picture 1" descr="bl_ut.tif"/>
            <p:cNvPicPr/>
            <p:nvPr/>
          </p:nvPicPr>
          <p:blipFill>
            <a:blip r:embed="rId3"/>
            <a:stretch/>
          </p:blipFill>
          <p:spPr>
            <a:xfrm>
              <a:off x="4723920" y="837360"/>
              <a:ext cx="3549960" cy="274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Picture 2" descr="bl_ur.tif"/>
            <p:cNvPicPr/>
            <p:nvPr/>
          </p:nvPicPr>
          <p:blipFill>
            <a:blip r:embed="rId4"/>
            <a:stretch/>
          </p:blipFill>
          <p:spPr>
            <a:xfrm>
              <a:off x="4694400" y="3809520"/>
              <a:ext cx="3549960" cy="274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TextBox 7"/>
            <p:cNvSpPr/>
            <p:nvPr/>
          </p:nvSpPr>
          <p:spPr>
            <a:xfrm>
              <a:off x="6139800" y="47160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HWRFx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1" name="TextBox 9"/>
            <p:cNvSpPr/>
            <p:nvPr/>
          </p:nvSpPr>
          <p:spPr>
            <a:xfrm>
              <a:off x="6618240" y="1155600"/>
              <a:ext cx="1114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Tangential wind (m/s)</a:t>
              </a:r>
              <a:endParaRPr b="0" lang="en-US" sz="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2" name="TextBox 11"/>
            <p:cNvSpPr/>
            <p:nvPr/>
          </p:nvSpPr>
          <p:spPr>
            <a:xfrm>
              <a:off x="6783120" y="4097880"/>
              <a:ext cx="932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Radial wind (m/s)</a:t>
              </a:r>
              <a:endParaRPr b="0" lang="en-US" sz="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3" name="TextBox 13"/>
            <p:cNvSpPr/>
            <p:nvPr/>
          </p:nvSpPr>
          <p:spPr>
            <a:xfrm>
              <a:off x="6178680" y="4443120"/>
              <a:ext cx="7812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Calibri"/>
                </a:rPr>
                <a:t>10% of peak inflow</a:t>
              </a:r>
              <a:endParaRPr b="0" lang="en-US" sz="6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4" name="TextBox 16"/>
            <p:cNvSpPr/>
            <p:nvPr/>
          </p:nvSpPr>
          <p:spPr>
            <a:xfrm>
              <a:off x="5558040" y="5220720"/>
              <a:ext cx="28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5" name="TextBox 17"/>
            <p:cNvSpPr/>
            <p:nvPr/>
          </p:nvSpPr>
          <p:spPr>
            <a:xfrm>
              <a:off x="5331240" y="5452560"/>
              <a:ext cx="8283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Calibri"/>
                </a:rPr>
                <a:t>max tangential wind</a:t>
              </a:r>
              <a:endParaRPr b="0" lang="en-US" sz="6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9T20:58:34Z</dcterms:created>
  <dc:creator>Robert.Rogers</dc:creator>
  <dc:description/>
  <dc:language>en-US</dc:language>
  <cp:lastModifiedBy>Robert.Rogers</cp:lastModifiedBy>
  <dcterms:modified xsi:type="dcterms:W3CDTF">2011-01-20T15:22:59Z</dcterms:modified>
  <cp:revision>20</cp:revision>
  <dc:subject/>
  <dc:title>Slide 1</dc:title>
</cp:coreProperties>
</file>